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50179-15FA-4A81-8636-ECD5CCA5A39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5969D-9856-42B6-AF80-B9D92069553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20BA-CCA0-4DFD-854B-EDD704434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3A90-4032-44BE-8FC4-69708B2A4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F320-295B-4000-B320-699D85F7B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4EE7-E4EC-48B2-A8C8-7E50C9C4A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A309-B11D-458B-B71C-6562FE881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7648-9997-4956-9471-B3C4A44F8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43AF-1B3E-4E82-8496-242256675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D762-C146-40F3-BC21-23F6E35E5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1BCF-2046-4B6D-82B3-C8751F9E6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8DE5-CAB7-4D98-BE8A-1E07B243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EF44-7640-4225-ACD8-BBCBFE75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078E-9118-4F52-A61D-BF0D7663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8ED67-33B3-4A5E-9C03-293826AF0BA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正方形/長方形 38" descr=""/>
          <p:cNvPicPr/>
          <p:nvPr/>
        </p:nvPicPr>
        <p:blipFill>
          <a:blip r:embed="rId1"/>
          <a:stretch/>
        </p:blipFill>
        <p:spPr>
          <a:xfrm>
            <a:off x="201600" y="85680"/>
            <a:ext cx="8656560" cy="828720"/>
          </a:xfrm>
          <a:prstGeom prst="rect">
            <a:avLst/>
          </a:prstGeom>
          <a:ln w="0">
            <a:noFill/>
          </a:ln>
        </p:spPr>
      </p:pic>
      <p:sp>
        <p:nvSpPr>
          <p:cNvPr id="49" name="正方形/長方形 8"/>
          <p:cNvSpPr/>
          <p:nvPr/>
        </p:nvSpPr>
        <p:spPr>
          <a:xfrm>
            <a:off x="200160" y="941400"/>
            <a:ext cx="86738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ＭＳ Ｐゴシック"/>
              </a:rPr>
              <a:t>友達に聞いてみたいことリストを作ろう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グループ化 1"/>
          <p:cNvGrpSpPr/>
          <p:nvPr/>
        </p:nvGrpSpPr>
        <p:grpSpPr>
          <a:xfrm>
            <a:off x="227160" y="6202440"/>
            <a:ext cx="8807400" cy="392040"/>
            <a:chOff x="227160" y="6202440"/>
            <a:chExt cx="8807400" cy="392040"/>
          </a:xfrm>
        </p:grpSpPr>
        <p:sp>
          <p:nvSpPr>
            <p:cNvPr id="51" name="正方形/長方形 10"/>
            <p:cNvSpPr/>
            <p:nvPr/>
          </p:nvSpPr>
          <p:spPr>
            <a:xfrm>
              <a:off x="227160" y="6202440"/>
              <a:ext cx="8361360" cy="39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2" name="グループ化 5"/>
            <p:cNvGrpSpPr/>
            <p:nvPr/>
          </p:nvGrpSpPr>
          <p:grpSpPr>
            <a:xfrm>
              <a:off x="227160" y="6203880"/>
              <a:ext cx="5870880" cy="108000"/>
              <a:chOff x="227160" y="6203880"/>
              <a:chExt cx="5870880" cy="108000"/>
            </a:xfrm>
          </p:grpSpPr>
          <p:sp>
            <p:nvSpPr>
              <p:cNvPr id="53" name="フリーフォーム 20"/>
              <p:cNvSpPr/>
              <p:nvPr/>
            </p:nvSpPr>
            <p:spPr>
              <a:xfrm>
                <a:off x="3151440" y="6221160"/>
                <a:ext cx="2946600" cy="90720"/>
              </a:xfrm>
              <a:custGeom>
                <a:avLst/>
                <a:gdLst/>
                <a:ahLst/>
                <a:rect l="l" t="t" r="r" b="b"/>
                <a:pathLst>
                  <a:path w="8639175" h="723910">
                    <a:moveTo>
                      <a:pt x="0" y="704860"/>
                    </a:moveTo>
                    <a:cubicBezTo>
                      <a:pt x="245269" y="357197"/>
                      <a:pt x="490538" y="9535"/>
                      <a:pt x="733425" y="9535"/>
                    </a:cubicBezTo>
                    <a:cubicBezTo>
                      <a:pt x="976312" y="9535"/>
                      <a:pt x="1217613" y="706447"/>
                      <a:pt x="1457325" y="704860"/>
                    </a:cubicBezTo>
                    <a:cubicBezTo>
                      <a:pt x="1697037" y="703273"/>
                      <a:pt x="1930400" y="-1577"/>
                      <a:pt x="2171700" y="10"/>
                    </a:cubicBezTo>
                    <a:cubicBezTo>
                      <a:pt x="2413000" y="1597"/>
                      <a:pt x="2665413" y="709623"/>
                      <a:pt x="2905125" y="714385"/>
                    </a:cubicBezTo>
                    <a:cubicBezTo>
                      <a:pt x="3144838" y="719148"/>
                      <a:pt x="3370263" y="28585"/>
                      <a:pt x="3609975" y="28585"/>
                    </a:cubicBezTo>
                    <a:cubicBezTo>
                      <a:pt x="3849687" y="28585"/>
                      <a:pt x="4102100" y="719148"/>
                      <a:pt x="4343400" y="714385"/>
                    </a:cubicBezTo>
                    <a:cubicBezTo>
                      <a:pt x="4584700" y="709623"/>
                      <a:pt x="4822825" y="1597"/>
                      <a:pt x="5057775" y="10"/>
                    </a:cubicBezTo>
                    <a:cubicBezTo>
                      <a:pt x="5292725" y="-1578"/>
                      <a:pt x="5513388" y="701685"/>
                      <a:pt x="5753100" y="704860"/>
                    </a:cubicBezTo>
                    <a:cubicBezTo>
                      <a:pt x="5992812" y="708035"/>
                      <a:pt x="6253163" y="19060"/>
                      <a:pt x="6496050" y="19060"/>
                    </a:cubicBezTo>
                    <a:cubicBezTo>
                      <a:pt x="6738937" y="19060"/>
                      <a:pt x="6970713" y="708035"/>
                      <a:pt x="7210425" y="704860"/>
                    </a:cubicBezTo>
                    <a:cubicBezTo>
                      <a:pt x="7450137" y="701685"/>
                      <a:pt x="7696200" y="-3165"/>
                      <a:pt x="7934325" y="10"/>
                    </a:cubicBezTo>
                    <a:cubicBezTo>
                      <a:pt x="8172450" y="3185"/>
                      <a:pt x="8405812" y="363547"/>
                      <a:pt x="8639175" y="72391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" name="フリーフォーム 18"/>
              <p:cNvSpPr/>
              <p:nvPr/>
            </p:nvSpPr>
            <p:spPr>
              <a:xfrm>
                <a:off x="227160" y="6203880"/>
                <a:ext cx="2928960" cy="103320"/>
              </a:xfrm>
              <a:custGeom>
                <a:avLst/>
                <a:gdLst/>
                <a:ahLst/>
                <a:rect l="l" t="t" r="r" b="b"/>
                <a:pathLst>
                  <a:path w="8639175" h="723910">
                    <a:moveTo>
                      <a:pt x="0" y="704860"/>
                    </a:moveTo>
                    <a:cubicBezTo>
                      <a:pt x="245269" y="357197"/>
                      <a:pt x="490538" y="9535"/>
                      <a:pt x="733425" y="9535"/>
                    </a:cubicBezTo>
                    <a:cubicBezTo>
                      <a:pt x="976312" y="9535"/>
                      <a:pt x="1217613" y="706447"/>
                      <a:pt x="1457325" y="704860"/>
                    </a:cubicBezTo>
                    <a:cubicBezTo>
                      <a:pt x="1697037" y="703273"/>
                      <a:pt x="1930400" y="-1577"/>
                      <a:pt x="2171700" y="10"/>
                    </a:cubicBezTo>
                    <a:cubicBezTo>
                      <a:pt x="2413000" y="1597"/>
                      <a:pt x="2665413" y="709623"/>
                      <a:pt x="2905125" y="714385"/>
                    </a:cubicBezTo>
                    <a:cubicBezTo>
                      <a:pt x="3144838" y="719148"/>
                      <a:pt x="3370263" y="28585"/>
                      <a:pt x="3609975" y="28585"/>
                    </a:cubicBezTo>
                    <a:cubicBezTo>
                      <a:pt x="3849687" y="28585"/>
                      <a:pt x="4102100" y="719148"/>
                      <a:pt x="4343400" y="714385"/>
                    </a:cubicBezTo>
                    <a:cubicBezTo>
                      <a:pt x="4584700" y="709623"/>
                      <a:pt x="4822825" y="1597"/>
                      <a:pt x="5057775" y="10"/>
                    </a:cubicBezTo>
                    <a:cubicBezTo>
                      <a:pt x="5292725" y="-1578"/>
                      <a:pt x="5513388" y="701685"/>
                      <a:pt x="5753100" y="704860"/>
                    </a:cubicBezTo>
                    <a:cubicBezTo>
                      <a:pt x="5992812" y="708035"/>
                      <a:pt x="6253163" y="19060"/>
                      <a:pt x="6496050" y="19060"/>
                    </a:cubicBezTo>
                    <a:cubicBezTo>
                      <a:pt x="6738937" y="19060"/>
                      <a:pt x="6970713" y="708035"/>
                      <a:pt x="7210425" y="704860"/>
                    </a:cubicBezTo>
                    <a:cubicBezTo>
                      <a:pt x="7450137" y="701685"/>
                      <a:pt x="7696200" y="-3165"/>
                      <a:pt x="7934325" y="10"/>
                    </a:cubicBezTo>
                    <a:cubicBezTo>
                      <a:pt x="8172450" y="3185"/>
                      <a:pt x="8405812" y="363547"/>
                      <a:pt x="8639175" y="72391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5" name="フリーフォーム 14"/>
            <p:cNvSpPr/>
            <p:nvPr/>
          </p:nvSpPr>
          <p:spPr>
            <a:xfrm>
              <a:off x="6086520" y="6202440"/>
              <a:ext cx="2948040" cy="102960"/>
            </a:xfrm>
            <a:custGeom>
              <a:avLst/>
              <a:gdLst/>
              <a:ahLst/>
              <a:rect l="l" t="t" r="r" b="b"/>
              <a:pathLst>
                <a:path w="8639175" h="723910">
                  <a:moveTo>
                    <a:pt x="0" y="704860"/>
                  </a:moveTo>
                  <a:cubicBezTo>
                    <a:pt x="245269" y="357197"/>
                    <a:pt x="490538" y="9535"/>
                    <a:pt x="733425" y="9535"/>
                  </a:cubicBezTo>
                  <a:cubicBezTo>
                    <a:pt x="976312" y="9535"/>
                    <a:pt x="1217613" y="706447"/>
                    <a:pt x="1457325" y="704860"/>
                  </a:cubicBezTo>
                  <a:cubicBezTo>
                    <a:pt x="1697037" y="703273"/>
                    <a:pt x="1930400" y="-1577"/>
                    <a:pt x="2171700" y="10"/>
                  </a:cubicBezTo>
                  <a:cubicBezTo>
                    <a:pt x="2413000" y="1597"/>
                    <a:pt x="2665413" y="709623"/>
                    <a:pt x="2905125" y="714385"/>
                  </a:cubicBezTo>
                  <a:cubicBezTo>
                    <a:pt x="3144838" y="719148"/>
                    <a:pt x="3370263" y="28585"/>
                    <a:pt x="3609975" y="28585"/>
                  </a:cubicBezTo>
                  <a:cubicBezTo>
                    <a:pt x="3849687" y="28585"/>
                    <a:pt x="4102100" y="719148"/>
                    <a:pt x="4343400" y="714385"/>
                  </a:cubicBezTo>
                  <a:cubicBezTo>
                    <a:pt x="4584700" y="709623"/>
                    <a:pt x="4822825" y="1597"/>
                    <a:pt x="5057775" y="10"/>
                  </a:cubicBezTo>
                  <a:cubicBezTo>
                    <a:pt x="5292725" y="-1578"/>
                    <a:pt x="5513388" y="701685"/>
                    <a:pt x="5753100" y="704860"/>
                  </a:cubicBezTo>
                  <a:cubicBezTo>
                    <a:pt x="5992812" y="708035"/>
                    <a:pt x="6253163" y="19060"/>
                    <a:pt x="6496050" y="19060"/>
                  </a:cubicBezTo>
                  <a:cubicBezTo>
                    <a:pt x="6738937" y="19060"/>
                    <a:pt x="6970713" y="708035"/>
                    <a:pt x="7210425" y="704860"/>
                  </a:cubicBezTo>
                  <a:cubicBezTo>
                    <a:pt x="7450137" y="701685"/>
                    <a:pt x="7696200" y="-3165"/>
                    <a:pt x="7934325" y="10"/>
                  </a:cubicBezTo>
                  <a:cubicBezTo>
                    <a:pt x="8172450" y="3185"/>
                    <a:pt x="8405812" y="363547"/>
                    <a:pt x="8639175" y="72391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" name="テキスト ボックス 2"/>
          <p:cNvSpPr/>
          <p:nvPr/>
        </p:nvSpPr>
        <p:spPr>
          <a:xfrm>
            <a:off x="2695680" y="2421000"/>
            <a:ext cx="31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Calibri"/>
              </a:rPr>
              <a:t>最近おもいっきりわらったのはいつです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テキスト ボックス 25"/>
          <p:cNvSpPr/>
          <p:nvPr/>
        </p:nvSpPr>
        <p:spPr>
          <a:xfrm>
            <a:off x="6372360" y="2604960"/>
            <a:ext cx="31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Calibri"/>
              </a:rPr>
              <a:t>それはなぜです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2"/>
          <a:srcRect l="0" t="9216" r="31404" b="38907"/>
          <a:stretch/>
        </p:blipFill>
        <p:spPr>
          <a:xfrm>
            <a:off x="293760" y="2033640"/>
            <a:ext cx="8740800" cy="4230720"/>
          </a:xfrm>
          <a:prstGeom prst="rect">
            <a:avLst/>
          </a:prstGeom>
          <a:ln w="0">
            <a:noFill/>
          </a:ln>
        </p:spPr>
      </p:pic>
      <p:sp>
        <p:nvSpPr>
          <p:cNvPr id="59" name="角丸四角形吹き出し 1"/>
          <p:cNvSpPr/>
          <p:nvPr/>
        </p:nvSpPr>
        <p:spPr>
          <a:xfrm>
            <a:off x="4140360" y="4221000"/>
            <a:ext cx="3024000" cy="1224000"/>
          </a:xfrm>
          <a:prstGeom prst="wedgeRoundRectCallout">
            <a:avLst>
              <a:gd name="adj1" fmla="val -12138"/>
              <a:gd name="adj2" fmla="val -127337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Calibri"/>
              </a:rPr>
              <a:t>友達に聞いてみたいこ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"/>
          <p:cNvPicPr/>
          <p:nvPr/>
        </p:nvPicPr>
        <p:blipFill>
          <a:blip r:embed="rId1"/>
          <a:srcRect l="0" t="9216" r="31404" b="47982"/>
          <a:stretch/>
        </p:blipFill>
        <p:spPr>
          <a:xfrm>
            <a:off x="270000" y="923760"/>
            <a:ext cx="8740800" cy="3490920"/>
          </a:xfrm>
          <a:prstGeom prst="rect">
            <a:avLst/>
          </a:prstGeom>
          <a:ln w="0">
            <a:noFill/>
          </a:ln>
        </p:spPr>
      </p:pic>
      <p:sp>
        <p:nvSpPr>
          <p:cNvPr id="61" name="正方形/長方形 8"/>
          <p:cNvSpPr/>
          <p:nvPr/>
        </p:nvSpPr>
        <p:spPr>
          <a:xfrm>
            <a:off x="200160" y="77760"/>
            <a:ext cx="86738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ＭＳ Ｐゴシック"/>
              </a:rPr>
              <a:t>聞いたことのメモをとろう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" name="グループ化 1"/>
          <p:cNvGrpSpPr/>
          <p:nvPr/>
        </p:nvGrpSpPr>
        <p:grpSpPr>
          <a:xfrm>
            <a:off x="297000" y="4325760"/>
            <a:ext cx="8807400" cy="390600"/>
            <a:chOff x="297000" y="4325760"/>
            <a:chExt cx="8807400" cy="390600"/>
          </a:xfrm>
        </p:grpSpPr>
        <p:sp>
          <p:nvSpPr>
            <p:cNvPr id="63" name="正方形/長方形 10"/>
            <p:cNvSpPr/>
            <p:nvPr/>
          </p:nvSpPr>
          <p:spPr>
            <a:xfrm>
              <a:off x="297000" y="4325760"/>
              <a:ext cx="8361360" cy="39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4" name="グループ化 5"/>
            <p:cNvGrpSpPr/>
            <p:nvPr/>
          </p:nvGrpSpPr>
          <p:grpSpPr>
            <a:xfrm>
              <a:off x="297000" y="4327200"/>
              <a:ext cx="5870880" cy="107280"/>
              <a:chOff x="297000" y="4327200"/>
              <a:chExt cx="5870880" cy="107280"/>
            </a:xfrm>
          </p:grpSpPr>
          <p:sp>
            <p:nvSpPr>
              <p:cNvPr id="65" name="フリーフォーム 20"/>
              <p:cNvSpPr/>
              <p:nvPr/>
            </p:nvSpPr>
            <p:spPr>
              <a:xfrm>
                <a:off x="3221280" y="4344480"/>
                <a:ext cx="2946600" cy="90000"/>
              </a:xfrm>
              <a:custGeom>
                <a:avLst/>
                <a:gdLst/>
                <a:ahLst/>
                <a:rect l="l" t="t" r="r" b="b"/>
                <a:pathLst>
                  <a:path w="8639175" h="723910">
                    <a:moveTo>
                      <a:pt x="0" y="704860"/>
                    </a:moveTo>
                    <a:cubicBezTo>
                      <a:pt x="245269" y="357197"/>
                      <a:pt x="490538" y="9535"/>
                      <a:pt x="733425" y="9535"/>
                    </a:cubicBezTo>
                    <a:cubicBezTo>
                      <a:pt x="976312" y="9535"/>
                      <a:pt x="1217613" y="706447"/>
                      <a:pt x="1457325" y="704860"/>
                    </a:cubicBezTo>
                    <a:cubicBezTo>
                      <a:pt x="1697037" y="703273"/>
                      <a:pt x="1930400" y="-1577"/>
                      <a:pt x="2171700" y="10"/>
                    </a:cubicBezTo>
                    <a:cubicBezTo>
                      <a:pt x="2413000" y="1597"/>
                      <a:pt x="2665413" y="709623"/>
                      <a:pt x="2905125" y="714385"/>
                    </a:cubicBezTo>
                    <a:cubicBezTo>
                      <a:pt x="3144838" y="719148"/>
                      <a:pt x="3370263" y="28585"/>
                      <a:pt x="3609975" y="28585"/>
                    </a:cubicBezTo>
                    <a:cubicBezTo>
                      <a:pt x="3849687" y="28585"/>
                      <a:pt x="4102100" y="719148"/>
                      <a:pt x="4343400" y="714385"/>
                    </a:cubicBezTo>
                    <a:cubicBezTo>
                      <a:pt x="4584700" y="709623"/>
                      <a:pt x="4822825" y="1597"/>
                      <a:pt x="5057775" y="10"/>
                    </a:cubicBezTo>
                    <a:cubicBezTo>
                      <a:pt x="5292725" y="-1578"/>
                      <a:pt x="5513388" y="701685"/>
                      <a:pt x="5753100" y="704860"/>
                    </a:cubicBezTo>
                    <a:cubicBezTo>
                      <a:pt x="5992812" y="708035"/>
                      <a:pt x="6253163" y="19060"/>
                      <a:pt x="6496050" y="19060"/>
                    </a:cubicBezTo>
                    <a:cubicBezTo>
                      <a:pt x="6738937" y="19060"/>
                      <a:pt x="6970713" y="708035"/>
                      <a:pt x="7210425" y="704860"/>
                    </a:cubicBezTo>
                    <a:cubicBezTo>
                      <a:pt x="7450137" y="701685"/>
                      <a:pt x="7696200" y="-3165"/>
                      <a:pt x="7934325" y="10"/>
                    </a:cubicBezTo>
                    <a:cubicBezTo>
                      <a:pt x="8172450" y="3185"/>
                      <a:pt x="8405812" y="363547"/>
                      <a:pt x="8639175" y="72391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" name="フリーフォーム 18"/>
              <p:cNvSpPr/>
              <p:nvPr/>
            </p:nvSpPr>
            <p:spPr>
              <a:xfrm>
                <a:off x="297000" y="4327200"/>
                <a:ext cx="2928960" cy="102600"/>
              </a:xfrm>
              <a:custGeom>
                <a:avLst/>
                <a:gdLst/>
                <a:ahLst/>
                <a:rect l="l" t="t" r="r" b="b"/>
                <a:pathLst>
                  <a:path w="8639175" h="723910">
                    <a:moveTo>
                      <a:pt x="0" y="704860"/>
                    </a:moveTo>
                    <a:cubicBezTo>
                      <a:pt x="245269" y="357197"/>
                      <a:pt x="490538" y="9535"/>
                      <a:pt x="733425" y="9535"/>
                    </a:cubicBezTo>
                    <a:cubicBezTo>
                      <a:pt x="976312" y="9535"/>
                      <a:pt x="1217613" y="706447"/>
                      <a:pt x="1457325" y="704860"/>
                    </a:cubicBezTo>
                    <a:cubicBezTo>
                      <a:pt x="1697037" y="703273"/>
                      <a:pt x="1930400" y="-1577"/>
                      <a:pt x="2171700" y="10"/>
                    </a:cubicBezTo>
                    <a:cubicBezTo>
                      <a:pt x="2413000" y="1597"/>
                      <a:pt x="2665413" y="709623"/>
                      <a:pt x="2905125" y="714385"/>
                    </a:cubicBezTo>
                    <a:cubicBezTo>
                      <a:pt x="3144838" y="719148"/>
                      <a:pt x="3370263" y="28585"/>
                      <a:pt x="3609975" y="28585"/>
                    </a:cubicBezTo>
                    <a:cubicBezTo>
                      <a:pt x="3849687" y="28585"/>
                      <a:pt x="4102100" y="719148"/>
                      <a:pt x="4343400" y="714385"/>
                    </a:cubicBezTo>
                    <a:cubicBezTo>
                      <a:pt x="4584700" y="709623"/>
                      <a:pt x="4822825" y="1597"/>
                      <a:pt x="5057775" y="10"/>
                    </a:cubicBezTo>
                    <a:cubicBezTo>
                      <a:pt x="5292725" y="-1578"/>
                      <a:pt x="5513388" y="701685"/>
                      <a:pt x="5753100" y="704860"/>
                    </a:cubicBezTo>
                    <a:cubicBezTo>
                      <a:pt x="5992812" y="708035"/>
                      <a:pt x="6253163" y="19060"/>
                      <a:pt x="6496050" y="19060"/>
                    </a:cubicBezTo>
                    <a:cubicBezTo>
                      <a:pt x="6738937" y="19060"/>
                      <a:pt x="6970713" y="708035"/>
                      <a:pt x="7210425" y="704860"/>
                    </a:cubicBezTo>
                    <a:cubicBezTo>
                      <a:pt x="7450137" y="701685"/>
                      <a:pt x="7696200" y="-3165"/>
                      <a:pt x="7934325" y="10"/>
                    </a:cubicBezTo>
                    <a:cubicBezTo>
                      <a:pt x="8172450" y="3185"/>
                      <a:pt x="8405812" y="363547"/>
                      <a:pt x="8639175" y="72391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7" name="フリーフォーム 14"/>
            <p:cNvSpPr/>
            <p:nvPr/>
          </p:nvSpPr>
          <p:spPr>
            <a:xfrm>
              <a:off x="6156360" y="4325760"/>
              <a:ext cx="2948040" cy="102960"/>
            </a:xfrm>
            <a:custGeom>
              <a:avLst/>
              <a:gdLst/>
              <a:ahLst/>
              <a:rect l="l" t="t" r="r" b="b"/>
              <a:pathLst>
                <a:path w="8639175" h="723910">
                  <a:moveTo>
                    <a:pt x="0" y="704860"/>
                  </a:moveTo>
                  <a:cubicBezTo>
                    <a:pt x="245269" y="357197"/>
                    <a:pt x="490538" y="9535"/>
                    <a:pt x="733425" y="9535"/>
                  </a:cubicBezTo>
                  <a:cubicBezTo>
                    <a:pt x="976312" y="9535"/>
                    <a:pt x="1217613" y="706447"/>
                    <a:pt x="1457325" y="704860"/>
                  </a:cubicBezTo>
                  <a:cubicBezTo>
                    <a:pt x="1697037" y="703273"/>
                    <a:pt x="1930400" y="-1577"/>
                    <a:pt x="2171700" y="10"/>
                  </a:cubicBezTo>
                  <a:cubicBezTo>
                    <a:pt x="2413000" y="1597"/>
                    <a:pt x="2665413" y="709623"/>
                    <a:pt x="2905125" y="714385"/>
                  </a:cubicBezTo>
                  <a:cubicBezTo>
                    <a:pt x="3144838" y="719148"/>
                    <a:pt x="3370263" y="28585"/>
                    <a:pt x="3609975" y="28585"/>
                  </a:cubicBezTo>
                  <a:cubicBezTo>
                    <a:pt x="3849687" y="28585"/>
                    <a:pt x="4102100" y="719148"/>
                    <a:pt x="4343400" y="714385"/>
                  </a:cubicBezTo>
                  <a:cubicBezTo>
                    <a:pt x="4584700" y="709623"/>
                    <a:pt x="4822825" y="1597"/>
                    <a:pt x="5057775" y="10"/>
                  </a:cubicBezTo>
                  <a:cubicBezTo>
                    <a:pt x="5292725" y="-1578"/>
                    <a:pt x="5513388" y="701685"/>
                    <a:pt x="5753100" y="704860"/>
                  </a:cubicBezTo>
                  <a:cubicBezTo>
                    <a:pt x="5992812" y="708035"/>
                    <a:pt x="6253163" y="19060"/>
                    <a:pt x="6496050" y="19060"/>
                  </a:cubicBezTo>
                  <a:cubicBezTo>
                    <a:pt x="6738937" y="19060"/>
                    <a:pt x="6970713" y="708035"/>
                    <a:pt x="7210425" y="704860"/>
                  </a:cubicBezTo>
                  <a:cubicBezTo>
                    <a:pt x="7450137" y="701685"/>
                    <a:pt x="7696200" y="-3165"/>
                    <a:pt x="7934325" y="10"/>
                  </a:cubicBezTo>
                  <a:cubicBezTo>
                    <a:pt x="8172450" y="3185"/>
                    <a:pt x="8405812" y="363547"/>
                    <a:pt x="8639175" y="72391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" name="テキスト ボックス 2"/>
          <p:cNvSpPr/>
          <p:nvPr/>
        </p:nvSpPr>
        <p:spPr>
          <a:xfrm>
            <a:off x="2784600" y="1327320"/>
            <a:ext cx="31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最近おもいっきりわらったのはいつです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テキスト ボックス 25"/>
          <p:cNvSpPr/>
          <p:nvPr/>
        </p:nvSpPr>
        <p:spPr>
          <a:xfrm>
            <a:off x="6384960" y="1521000"/>
            <a:ext cx="31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それはなぜです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テキスト ボックス 26"/>
          <p:cNvSpPr/>
          <p:nvPr/>
        </p:nvSpPr>
        <p:spPr>
          <a:xfrm>
            <a:off x="303120" y="2914560"/>
            <a:ext cx="18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Calibri"/>
              </a:rPr>
              <a:t>○○</a:t>
            </a:r>
            <a:r>
              <a:rPr b="1" lang="ja-JP" sz="2400" spc="-1" strike="noStrike">
                <a:solidFill>
                  <a:srgbClr val="ff0000"/>
                </a:solidFill>
                <a:latin typeface="Calibri"/>
              </a:rPr>
              <a:t>さ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テキスト ボックス 28"/>
          <p:cNvSpPr/>
          <p:nvPr/>
        </p:nvSpPr>
        <p:spPr>
          <a:xfrm>
            <a:off x="2465280" y="2730600"/>
            <a:ext cx="34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Calibri"/>
              </a:rPr>
              <a:t>・先週の日曜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Calibri"/>
              </a:rPr>
              <a:t>・弟と話をし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テキスト ボックス 29"/>
          <p:cNvSpPr/>
          <p:nvPr/>
        </p:nvSpPr>
        <p:spPr>
          <a:xfrm>
            <a:off x="6086520" y="2546280"/>
            <a:ext cx="292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Calibri"/>
              </a:rPr>
              <a:t>・動物のものま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Calibri"/>
              </a:rPr>
              <a:t>・おもしろかっ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Calibri"/>
              </a:rPr>
              <a:t>・とくにチンパンジ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" name="グループ化 13"/>
          <p:cNvGrpSpPr/>
          <p:nvPr/>
        </p:nvGrpSpPr>
        <p:grpSpPr>
          <a:xfrm>
            <a:off x="3209760" y="5076720"/>
            <a:ext cx="1708200" cy="1143000"/>
            <a:chOff x="3209760" y="5076720"/>
            <a:chExt cx="1708200" cy="1143000"/>
          </a:xfrm>
        </p:grpSpPr>
        <p:pic>
          <p:nvPicPr>
            <p:cNvPr id="74" name="Picture 3" descr="C:\Users\tqe74765\Desktop\088-08B.png"/>
            <p:cNvPicPr/>
            <p:nvPr/>
          </p:nvPicPr>
          <p:blipFill>
            <a:blip r:embed="rId2"/>
            <a:stretch/>
          </p:blipFill>
          <p:spPr>
            <a:xfrm>
              <a:off x="3209760" y="5076720"/>
              <a:ext cx="17082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テキスト ボックス 22"/>
            <p:cNvSpPr/>
            <p:nvPr/>
          </p:nvSpPr>
          <p:spPr>
            <a:xfrm>
              <a:off x="3627000" y="5308200"/>
              <a:ext cx="106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Calibri"/>
                </a:rPr>
                <a:t>短く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グループ化 11"/>
          <p:cNvGrpSpPr/>
          <p:nvPr/>
        </p:nvGrpSpPr>
        <p:grpSpPr>
          <a:xfrm>
            <a:off x="5022720" y="4430880"/>
            <a:ext cx="1795680" cy="1543320"/>
            <a:chOff x="5022720" y="4430880"/>
            <a:chExt cx="1795680" cy="1543320"/>
          </a:xfrm>
        </p:grpSpPr>
        <p:pic>
          <p:nvPicPr>
            <p:cNvPr id="77" name="Picture 3" descr="C:\Users\tqe74765\Desktop\088-08B.png"/>
            <p:cNvPicPr/>
            <p:nvPr/>
          </p:nvPicPr>
          <p:blipFill>
            <a:blip r:embed="rId3"/>
            <a:stretch/>
          </p:blipFill>
          <p:spPr>
            <a:xfrm>
              <a:off x="5022720" y="4430880"/>
              <a:ext cx="1795680" cy="141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テキスト ボックス 23"/>
            <p:cNvSpPr/>
            <p:nvPr/>
          </p:nvSpPr>
          <p:spPr>
            <a:xfrm>
              <a:off x="5162400" y="4600440"/>
              <a:ext cx="16560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かじょう　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　　書き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グループ化 9"/>
          <p:cNvGrpSpPr/>
          <p:nvPr/>
        </p:nvGrpSpPr>
        <p:grpSpPr>
          <a:xfrm>
            <a:off x="6862680" y="5078520"/>
            <a:ext cx="1795680" cy="1415880"/>
            <a:chOff x="6862680" y="5078520"/>
            <a:chExt cx="1795680" cy="1415880"/>
          </a:xfrm>
        </p:grpSpPr>
        <p:pic>
          <p:nvPicPr>
            <p:cNvPr id="80" name="Picture 3" descr="C:\Users\tqe74765\Desktop\088-08B.png"/>
            <p:cNvPicPr/>
            <p:nvPr/>
          </p:nvPicPr>
          <p:blipFill>
            <a:blip r:embed="rId4"/>
            <a:stretch/>
          </p:blipFill>
          <p:spPr>
            <a:xfrm>
              <a:off x="6862680" y="5078520"/>
              <a:ext cx="1795680" cy="141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テキスト ボックス 24"/>
            <p:cNvSpPr/>
            <p:nvPr/>
          </p:nvSpPr>
          <p:spPr>
            <a:xfrm>
              <a:off x="7148520" y="5276880"/>
              <a:ext cx="15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Calibri"/>
                </a:rPr>
                <a:t>必要なものだ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" name="グループ化 1"/>
          <p:cNvGrpSpPr/>
          <p:nvPr/>
        </p:nvGrpSpPr>
        <p:grpSpPr>
          <a:xfrm>
            <a:off x="97560" y="4246200"/>
            <a:ext cx="2869560" cy="1663200"/>
            <a:chOff x="97560" y="4246200"/>
            <a:chExt cx="2869560" cy="1663200"/>
          </a:xfrm>
        </p:grpSpPr>
        <p:sp>
          <p:nvSpPr>
            <p:cNvPr id="83" name="正方形/長方形 4"/>
            <p:cNvSpPr/>
            <p:nvPr/>
          </p:nvSpPr>
          <p:spPr>
            <a:xfrm>
              <a:off x="770040" y="4547880"/>
              <a:ext cx="1936800" cy="887400"/>
            </a:xfrm>
            <a:custGeom>
              <a:avLst/>
              <a:gdLst/>
              <a:ahLst/>
              <a:rect l="l" t="t" r="r" b="b"/>
              <a:pathLst>
                <a:path w="2104227" h="849844">
                  <a:moveTo>
                    <a:pt x="32084" y="263256"/>
                  </a:moveTo>
                  <a:cubicBezTo>
                    <a:pt x="51220" y="140889"/>
                    <a:pt x="-43352" y="93888"/>
                    <a:pt x="114815" y="96894"/>
                  </a:cubicBezTo>
                  <a:cubicBezTo>
                    <a:pt x="272982" y="99900"/>
                    <a:pt x="642201" y="72066"/>
                    <a:pt x="965047" y="66161"/>
                  </a:cubicBezTo>
                  <a:lnTo>
                    <a:pt x="2051892" y="0"/>
                  </a:lnTo>
                  <a:cubicBezTo>
                    <a:pt x="2047884" y="37420"/>
                    <a:pt x="2108044" y="74840"/>
                    <a:pt x="2104036" y="112260"/>
                  </a:cubicBezTo>
                  <a:lnTo>
                    <a:pt x="2051892" y="849844"/>
                  </a:lnTo>
                  <a:cubicBezTo>
                    <a:pt x="1415555" y="844496"/>
                    <a:pt x="827345" y="791023"/>
                    <a:pt x="191008" y="785675"/>
                  </a:cubicBezTo>
                  <a:lnTo>
                    <a:pt x="0" y="769633"/>
                  </a:lnTo>
                  <a:lnTo>
                    <a:pt x="32084" y="263256"/>
                  </a:lnTo>
                  <a:close/>
                </a:path>
              </a:pathLst>
            </a:custGeom>
            <a:solidFill>
              <a:srgbClr val="2fc9ff">
                <a:alpha val="31000"/>
              </a:srgbClr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テキスト ボックス 4"/>
            <p:cNvSpPr/>
            <p:nvPr/>
          </p:nvSpPr>
          <p:spPr>
            <a:xfrm>
              <a:off x="1025640" y="4713480"/>
              <a:ext cx="194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ポイント</a:t>
              </a:r>
              <a:r>
                <a:rPr b="0" lang="en-US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5" name="Picture 14" descr="Q:\036-037\PNG\036-06B.png"/>
            <p:cNvPicPr/>
            <p:nvPr/>
          </p:nvPicPr>
          <p:blipFill>
            <a:blip r:embed="rId5"/>
            <a:stretch/>
          </p:blipFill>
          <p:spPr>
            <a:xfrm rot="15569400">
              <a:off x="889560" y="3770280"/>
              <a:ext cx="1206360" cy="261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" name="角丸四角形 1"/>
          <p:cNvSpPr/>
          <p:nvPr/>
        </p:nvSpPr>
        <p:spPr>
          <a:xfrm>
            <a:off x="2465280" y="2421000"/>
            <a:ext cx="6545520" cy="1512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円/楕円 2"/>
          <p:cNvSpPr/>
          <p:nvPr/>
        </p:nvSpPr>
        <p:spPr>
          <a:xfrm>
            <a:off x="1370160" y="5276880"/>
            <a:ext cx="1250640" cy="91440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聞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グループ化 1"/>
          <p:cNvGrpSpPr/>
          <p:nvPr/>
        </p:nvGrpSpPr>
        <p:grpSpPr>
          <a:xfrm>
            <a:off x="47160" y="-65160"/>
            <a:ext cx="2869200" cy="1663560"/>
            <a:chOff x="47160" y="-65160"/>
            <a:chExt cx="2869200" cy="1663560"/>
          </a:xfrm>
        </p:grpSpPr>
        <p:sp>
          <p:nvSpPr>
            <p:cNvPr id="89" name="正方形/長方形 4"/>
            <p:cNvSpPr/>
            <p:nvPr/>
          </p:nvSpPr>
          <p:spPr>
            <a:xfrm>
              <a:off x="719280" y="236160"/>
              <a:ext cx="1936800" cy="887760"/>
            </a:xfrm>
            <a:custGeom>
              <a:avLst/>
              <a:gdLst/>
              <a:ahLst/>
              <a:rect l="l" t="t" r="r" b="b"/>
              <a:pathLst>
                <a:path w="2104227" h="849844">
                  <a:moveTo>
                    <a:pt x="32084" y="263256"/>
                  </a:moveTo>
                  <a:cubicBezTo>
                    <a:pt x="51220" y="140889"/>
                    <a:pt x="-43352" y="93888"/>
                    <a:pt x="114815" y="96894"/>
                  </a:cubicBezTo>
                  <a:cubicBezTo>
                    <a:pt x="272982" y="99900"/>
                    <a:pt x="642201" y="72066"/>
                    <a:pt x="965047" y="66161"/>
                  </a:cubicBezTo>
                  <a:lnTo>
                    <a:pt x="2051892" y="0"/>
                  </a:lnTo>
                  <a:cubicBezTo>
                    <a:pt x="2047884" y="37420"/>
                    <a:pt x="2108044" y="74840"/>
                    <a:pt x="2104036" y="112260"/>
                  </a:cubicBezTo>
                  <a:lnTo>
                    <a:pt x="2051892" y="849844"/>
                  </a:lnTo>
                  <a:cubicBezTo>
                    <a:pt x="1415555" y="844496"/>
                    <a:pt x="827345" y="791023"/>
                    <a:pt x="191008" y="785675"/>
                  </a:cubicBezTo>
                  <a:lnTo>
                    <a:pt x="0" y="769633"/>
                  </a:lnTo>
                  <a:lnTo>
                    <a:pt x="32084" y="263256"/>
                  </a:lnTo>
                  <a:close/>
                </a:path>
              </a:pathLst>
            </a:custGeom>
            <a:solidFill>
              <a:srgbClr val="2fc9ff">
                <a:alpha val="31000"/>
              </a:srgbClr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0" name="Picture 14" descr="Q:\036-037\PNG\036-06B.png"/>
            <p:cNvPicPr/>
            <p:nvPr/>
          </p:nvPicPr>
          <p:blipFill>
            <a:blip r:embed="rId1"/>
            <a:stretch/>
          </p:blipFill>
          <p:spPr>
            <a:xfrm rot="15569400">
              <a:off x="838800" y="-540360"/>
              <a:ext cx="1206720" cy="261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テキスト ボックス 4"/>
            <p:cNvSpPr/>
            <p:nvPr/>
          </p:nvSpPr>
          <p:spPr>
            <a:xfrm>
              <a:off x="974880" y="401760"/>
              <a:ext cx="194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ポイント</a:t>
              </a:r>
              <a:r>
                <a:rPr b="0" lang="en-US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" name="角丸四角形 5"/>
          <p:cNvSpPr/>
          <p:nvPr/>
        </p:nvSpPr>
        <p:spPr>
          <a:xfrm>
            <a:off x="2916360" y="361800"/>
            <a:ext cx="5543280" cy="603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インタビューをすると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テキスト ボックス 3"/>
          <p:cNvSpPr/>
          <p:nvPr/>
        </p:nvSpPr>
        <p:spPr>
          <a:xfrm>
            <a:off x="47520" y="1268280"/>
            <a:ext cx="909648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4000" spc="-1" strike="noStrike">
                <a:solidFill>
                  <a:srgbClr val="000000"/>
                </a:solidFill>
                <a:latin typeface="ＭＳ Ｐゴシック"/>
              </a:rPr>
              <a:t>順序よくたずねる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4000" spc="-1" strike="noStrike">
                <a:solidFill>
                  <a:srgbClr val="000000"/>
                </a:solidFill>
                <a:latin typeface="ＭＳ Ｐゴシック"/>
              </a:rPr>
              <a:t>相手の話を注意深く聞き，分からない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ＭＳ Ｐゴシック"/>
              </a:rPr>
              <a:t>　ときは，話の区切りで聞き返したり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ＭＳ Ｐゴシック"/>
              </a:rPr>
              <a:t>　質問したりする</a:t>
            </a:r>
            <a:r>
              <a:rPr b="0" lang="ja-JP" sz="3600" spc="-1" strike="noStrike">
                <a:solidFill>
                  <a:srgbClr val="000000"/>
                </a:solidFill>
                <a:latin typeface="ＭＳ Ｐゴシック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ja-JP" sz="3200" spc="-1" strike="noStrike">
                <a:solidFill>
                  <a:srgbClr val="ff0000"/>
                </a:solidFill>
                <a:latin typeface="Calibri"/>
              </a:rPr>
              <a:t>　「聞き取れなかったのでもう一度お願いします」　　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0000"/>
                </a:solidFill>
                <a:latin typeface="Calibri"/>
              </a:rPr>
              <a:t>　　「今のはどういう意味ですか？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0000"/>
                </a:solidFill>
                <a:latin typeface="Calibri"/>
              </a:rPr>
              <a:t>　　「それは，○○ということですか？」　な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大事なことはメモをとる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④</a:t>
            </a: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最後にていねいにお礼を言う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円/楕円 15"/>
          <p:cNvSpPr/>
          <p:nvPr/>
        </p:nvSpPr>
        <p:spPr>
          <a:xfrm>
            <a:off x="7308720" y="811080"/>
            <a:ext cx="1393920" cy="91440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話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7-03T05:34:57Z</dcterms:created>
  <dc:creator>京都市教育委員会</dc:creator>
  <dc:description/>
  <dc:language>en-US</dc:language>
  <cp:lastModifiedBy>京都市教育委員会</cp:lastModifiedBy>
  <dcterms:modified xsi:type="dcterms:W3CDTF">2020-03-09T04:11:16Z</dcterms:modified>
  <cp:revision>37</cp:revision>
  <dc:subject/>
  <dc:title>PowerPoint プレゼンテーション</dc:title>
</cp:coreProperties>
</file>